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66760" y="1240920"/>
            <a:ext cx="446400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F76F-2CF5-4B04-8D45-C94DE6FE48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66760" y="1241280"/>
            <a:ext cx="4464000" cy="33498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9320" y="4776480"/>
            <a:ext cx="5438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Номер слайда 3"/>
          <p:cNvSpPr/>
          <p:nvPr/>
        </p:nvSpPr>
        <p:spPr>
          <a:xfrm>
            <a:off x="3849840" y="9428040"/>
            <a:ext cx="29462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3A188D5-4D06-41A0-893A-452324E2D7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405-50CB-4240-8076-3CE14F4D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23F-061A-4779-BD23-19FDE0A2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8B84-E79C-4389-8EE5-D0E779E4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7AA-CF67-4439-A464-67C0B05F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3E7F-1FA7-4F19-B5A6-A7BDD4A0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D7B2-DAAF-4B72-8350-AAB0AF44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9BAE-B5CA-4076-8EF5-AB12979CA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A238-511D-4F36-A5C1-86A08801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37C8-8E23-4E02-9CE3-9BC6F34C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C727-06BD-49AF-9B1C-58BB4B9E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EE20-59DA-499D-A6E2-BBEB9302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657-CDBD-48B4-9D2F-F7FBFBA9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0A9-9341-4EF0-9492-97368B2413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D719-6ABD-4E41-A05E-72C5A4F39E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fayazova@yandex.ru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раевая  сетевая модель горизонтального обучен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как системообразующий элемент персонифицированной системы повышения квалификации работников образования Пермского кра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642960" y="5429160"/>
            <a:ext cx="850104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вгуст 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Этапы реализации ПСПК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3153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  работы над индивидуальным образовательным маршрут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430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агностика профессионального мастерства, самоопределение педаго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ставление на основе полученных результатов индивидуального образовательного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лизация маршрут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флексивный анализ эффективности индивидуального образовательного маршрут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МЕРОПРИЯТИЯ 2020-2021 г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480" y="1357200"/>
            <a:ext cx="864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1143000"/>
          <a:ext cx="9144000" cy="550080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Зада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dce6f2"/>
                          </a:solidFill>
                          <a:latin typeface="Calibri"/>
                        </a:rPr>
                        <a:t>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явить и обобщить новые образовательные активности в педагогической среде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Методический аукцион на площадке Сетевого сообщества  в феврале 2021г. Публикации опыта в СМИ «Вестник образования Пермского кра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ствовать в апробации диагностического контента по выявлению проф дефицитов работников образовани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Апробация – ноябрь 2020г –апрель 2021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зработать механизм отбора и аккумулирования содержательного контента для реализации ИОМов работников образования Пермского края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Рабочая группа (по плану)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то желает направляет свою кандидатуру на эл. почту: </a:t>
                      </a:r>
                      <a:r>
                        <a:rPr b="0" lang="en-US" sz="2000" spc="-1" strike="noStrike" u="sng">
                          <a:solidFill>
                            <a:srgbClr val="0000ff"/>
                          </a:solidFill>
                          <a:uFillTx/>
                          <a:latin typeface="Calibri"/>
                          <a:hlinkClick r:id="rId1"/>
                        </a:rPr>
                        <a:t>fayazova@yandex.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Структурно-функциональная модел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Объект 3" descr=""/>
          <p:cNvPicPr/>
          <p:nvPr/>
        </p:nvPicPr>
        <p:blipFill>
          <a:blip r:embed="rId1"/>
          <a:stretch/>
        </p:blipFill>
        <p:spPr>
          <a:xfrm>
            <a:off x="-55440" y="993600"/>
            <a:ext cx="9278640" cy="587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истема P2P (англ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e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«равный равному»), обучение внутри профес. сообществ педагогов и руководителей О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заимообуч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рганизационное решение, обеспечивающее использование ресурсов одновременно несколь-ких организаций в реализации процесса непре-рывного образования, осуществляемого в течение всей жизни взрослым индивидом в целях профессионального роста и личностного совершенство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Горизонтальное обучение педагогических работ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ределенная система обучения на основе сотрудничеств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сс обучения, который строится на сотрудничестве группы обучающихся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попутное обучение» в процессе групповой деятельности и общения (Л. Аберкромби (Лондон), Кеннет Браффи (Нью-Йорк)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Модель непрерывного профессионального развития педагогических 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-42840" y="1206360"/>
            <a:ext cx="9205920" cy="56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етевое обу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ое (взаимное) обучение (англ. networked learning, peer-to-peer learning) — относительно новая парадигма учебной деятельности, базирующаяся на идее массового сотрудничества, идеологии открытых образовательных ресурсов, в сочетании с сетевой организацией взаимодействия участн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Цель горизонтального обуч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85480" y="1571400"/>
            <a:ext cx="8429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еспечение реализации индивидуальных образовательных маршрутов работников образования Пермского края эффективным содержательным контентом для  взаимообучения в  профессиональных сообществах в условиях персонифицированной системы повышения квалификаци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Горизонтальное обучение </a:t>
            </a: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- системообразующий элемент ПСПК работников образования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Содержимое 3" descr=""/>
          <p:cNvPicPr/>
          <p:nvPr/>
        </p:nvPicPr>
        <p:blipFill>
          <a:blip r:embed="rId1"/>
          <a:stretch/>
        </p:blipFill>
        <p:spPr>
          <a:xfrm>
            <a:off x="-19080" y="993600"/>
            <a:ext cx="9182160" cy="5870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786040" y="5643720"/>
            <a:ext cx="6357960" cy="10087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довлетворяет личностно значимые потреб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раняет профессиональные дефици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вершенствует проф. компетенци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Алгоритм реализации модели горизонтального обу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2" descr=""/>
          <p:cNvPicPr/>
          <p:nvPr/>
        </p:nvPicPr>
        <p:blipFill>
          <a:blip r:embed="rId1"/>
          <a:stretch/>
        </p:blipFill>
        <p:spPr>
          <a:xfrm>
            <a:off x="-19080" y="853920"/>
            <a:ext cx="9186840" cy="602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6439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Персонифицированная система  повышения квалификации (ПСП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Содержимое 6" descr=""/>
          <p:cNvPicPr/>
          <p:nvPr/>
        </p:nvPicPr>
        <p:blipFill>
          <a:blip r:embed="rId1"/>
          <a:stretch/>
        </p:blipFill>
        <p:spPr>
          <a:xfrm>
            <a:off x="-19080" y="1206360"/>
            <a:ext cx="91868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8T20:01:29Z</dcterms:created>
  <dc:creator>Катенок</dc:creator>
  <dc:description/>
  <dc:language>en-US</dc:language>
  <cp:lastModifiedBy>fayaz</cp:lastModifiedBy>
  <cp:lastPrinted>2020-03-11T11:23:47Z</cp:lastPrinted>
  <dcterms:modified xsi:type="dcterms:W3CDTF">2020-08-20T19:26:36Z</dcterms:modified>
  <cp:revision>474</cp:revision>
  <dc:subject/>
  <dc:title>Презентация PowerPoint</dc:title>
</cp:coreProperties>
</file>